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10B-E90B-4D1F-B12B-E6132A83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270-94D9-48F4-83AD-84BF5EDB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B0C-5643-469A-8DD8-ED83308F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B6B-CD02-4EF3-993A-E65C4408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123-610E-4A94-8E3E-3CAB3781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AFB-92E4-4B64-981F-CCF9296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73E-DF16-4579-983F-3EA999C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E23-DCEA-48D4-AFAA-286FAA64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111-C2A3-4BD3-A164-1AF1D3EF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575-844E-4A8B-820A-33A224E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2E8-3ADC-4FF7-AA33-DAB42C2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31A-F757-4947-B20C-5F8B8D6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41DB-C116-4119-8E0E-7152A7B156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88000" y="701640"/>
          <a:ext cx="2171880" cy="2433600"/>
        </p:xfrm>
        <a:graphic>
          <a:graphicData uri="http://schemas.openxmlformats.org/drawingml/2006/table">
            <a:tbl>
              <a:tblPr/>
              <a:tblGrid>
                <a:gridCol w="955800"/>
                <a:gridCol w="673200"/>
                <a:gridCol w="542880"/>
              </a:tblGrid>
              <a:tr h="246240"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年間利用者数（想定）　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4-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月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利用者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年間利用者</a:t>
                      </a:r>
                      <a:br>
                        <a:rPr sz="800"/>
                      </a:b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想定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前年度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2,8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77,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7,4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476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,25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9,5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,6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7,70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46,2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4,7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,9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1,5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9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5,9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5,8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,6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078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8,8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13,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5,7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sp>
        <p:nvSpPr>
          <p:cNvPr id="42" name="直線コネクタ 3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155080" y="44280"/>
            <a:ext cx="988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ctr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資料　２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3"/>
          <p:cNvSpPr/>
          <p:nvPr/>
        </p:nvSpPr>
        <p:spPr>
          <a:xfrm>
            <a:off x="0" y="17640"/>
            <a:ext cx="78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令和４年度　公共交通の輸送実績及び今後のスケジュー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2"/>
          <p:cNvSpPr/>
          <p:nvPr/>
        </p:nvSpPr>
        <p:spPr>
          <a:xfrm>
            <a:off x="0" y="333360"/>
            <a:ext cx="42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１．令和４年　４・５月の輸送実績につい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17"/>
          <p:cNvSpPr/>
          <p:nvPr/>
        </p:nvSpPr>
        <p:spPr>
          <a:xfrm>
            <a:off x="5951520" y="1709640"/>
            <a:ext cx="287280" cy="419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0"/>
          <p:cNvSpPr/>
          <p:nvPr/>
        </p:nvSpPr>
        <p:spPr>
          <a:xfrm>
            <a:off x="3240" y="3357720"/>
            <a:ext cx="42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２．今後のスケジュールについ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角丸四角形 25"/>
          <p:cNvSpPr/>
          <p:nvPr/>
        </p:nvSpPr>
        <p:spPr>
          <a:xfrm>
            <a:off x="8217000" y="878040"/>
            <a:ext cx="603000" cy="2257200"/>
          </a:xfrm>
          <a:custGeom>
            <a:avLst/>
            <a:gdLst>
              <a:gd name="textAreaLeft" fmla="*/ 29160 w 603000"/>
              <a:gd name="textAreaRight" fmla="*/ 573840 w 603000"/>
              <a:gd name="textAreaTop" fmla="*/ 29160 h 2257200"/>
              <a:gd name="textAreaBottom" fmla="*/ 2228040 h 2257200"/>
            </a:gdLst>
            <a:ahLst/>
            <a:rect l="textAreaLeft" t="textAreaTop" r="textAreaRight" b="textAreaBottom"/>
            <a:pathLst>
              <a:path w="21600" h="80820">
                <a:moveTo>
                  <a:pt x="3573" y="0"/>
                </a:moveTo>
                <a:arcTo wR="3573" hR="3573" stAng="16200000" swAng="-5400000"/>
                <a:lnTo>
                  <a:pt x="0" y="77247"/>
                </a:lnTo>
                <a:arcTo wR="3573" hR="3573" stAng="10800000" swAng="-5400000"/>
                <a:lnTo>
                  <a:pt x="18027" y="80820"/>
                </a:lnTo>
                <a:arcTo wR="3573" hR="3573" stAng="5400000" swAng="-5400000"/>
                <a:lnTo>
                  <a:pt x="21600" y="3573"/>
                </a:lnTo>
                <a:arcTo wR="3573" hR="3573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0280" y="706320"/>
          <a:ext cx="5072040" cy="2428920"/>
        </p:xfrm>
        <a:graphic>
          <a:graphicData uri="http://schemas.openxmlformats.org/drawingml/2006/table">
            <a:tbl>
              <a:tblPr/>
              <a:tblGrid>
                <a:gridCol w="136440"/>
                <a:gridCol w="1600200"/>
                <a:gridCol w="620640"/>
                <a:gridCol w="523800"/>
                <a:gridCol w="522360"/>
                <a:gridCol w="622440"/>
                <a:gridCol w="522360"/>
                <a:gridCol w="523800"/>
              </a:tblGrid>
              <a:tr h="303480">
                <a:tc gridSpan="2"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4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利用者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／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／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利用者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／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／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2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路線バ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6,5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219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4.7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6,3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203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4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031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フローレスタ循環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,61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54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.3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,6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52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.4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茨城東病院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,99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33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6.0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,70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19.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5.6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海浜公園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96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2.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4.0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96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1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.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2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デマンドタクシ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,0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2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.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2,9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26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1.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03120"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合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9,6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4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5.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9,2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33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GPｺﾞｼｯｸM"/>
                          <a:ea typeface="HGPｺﾞｼｯｸM"/>
                        </a:rPr>
                        <a:t>5.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30280" y="3781440"/>
          <a:ext cx="8229600" cy="1984320"/>
        </p:xfrm>
        <a:graphic>
          <a:graphicData uri="http://schemas.openxmlformats.org/drawingml/2006/table">
            <a:tbl>
              <a:tblPr/>
              <a:tblGrid>
                <a:gridCol w="960480"/>
                <a:gridCol w="3063600"/>
                <a:gridCol w="4205520"/>
              </a:tblGrid>
              <a:tr h="2206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内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詳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4413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通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公共交通利用促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游明朝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・ノーマイカーデー，ノーマイカーウィークへの取組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・広報誌による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P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游明朝"/>
                        </a:rPr>
                        <a:t>R4.6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第３０回東海村公共交通会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・令和３年度東海村地域公共交通利用実績につい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・東海村地域内フィーダー系統確保維持計画につい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游明朝"/>
                        </a:rPr>
                        <a:t>R4.1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1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月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（予定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第３１回東海村公共交通会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・令和４年度上半期利用実績につい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・令和５年度の公共交通事業につい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GPｺﾞｼｯｸM"/>
                          <a:ea typeface="游明朝"/>
                        </a:rPr>
                        <a:t>R5.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月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（予定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第３２回東海村公共交通会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明朝"/>
                          <a:ea typeface="HGPｺﾞｼｯｸM"/>
                        </a:rPr>
                        <a:t>・令和４年度地域内フィーダー系統確保維持計画の評価につい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05:32:26Z</dcterms:created>
  <dc:creator>Administrator</dc:creator>
  <dc:description/>
  <dc:language>en-US</dc:language>
  <cp:lastModifiedBy>Windows ユーザー</cp:lastModifiedBy>
  <cp:lastPrinted>2021-06-16T06:25:42Z</cp:lastPrinted>
  <dcterms:modified xsi:type="dcterms:W3CDTF">2022-06-13T10:21:16Z</dcterms:modified>
  <cp:revision>182</cp:revision>
  <dc:subject/>
  <dc:title>PowerPoint プレゼンテーション</dc:title>
</cp:coreProperties>
</file>